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654E7-CE56-48D6-ADA6-F5F9A3C09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6E7EB-318E-44AD-B05E-98B833B74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66028-056A-45D5-962E-BABFEB4ED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D7F47-2BAF-4113-BCE3-C9307132F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7140F-73AA-4B42-ACFC-B15299F0F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7B6AF-5237-4797-B902-6B1628964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2B5F9-E2CC-4020-935F-54F3C1AB2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374D1-EC0E-468E-B879-CF4E3C90F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CFDB6-53A5-46B0-B24F-2A07F362C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1E6DD-246B-4F4A-9829-51E845AAB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2955A-3F62-4FBE-9D2D-5108FA5CC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68358-2208-438A-A975-0BE548F4D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75A02-016F-47F1-B0BA-FA01AE33DD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rcRect l="0" t="1685" r="1635" b="116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rcRect l="0" t="2338" r="1584" b="379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1295280" y="1600200"/>
            <a:ext cx="7467840" cy="413388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1362240" y="1798560"/>
            <a:ext cx="3171600" cy="26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143000" y="1295280"/>
            <a:ext cx="7543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c6db4"/>
                </a:solidFill>
                <a:latin typeface="Verdana"/>
              </a:rPr>
              <a:t>…</a:t>
            </a:r>
            <a:r>
              <a:rPr b="1" lang="es-ES_tradnl" sz="2800" spc="-1" strike="noStrike">
                <a:solidFill>
                  <a:srgbClr val="0c6db4"/>
                </a:solidFill>
                <a:latin typeface="Verdana"/>
              </a:rPr>
              <a:t>en la industria farmaceút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3236760" y="762120"/>
            <a:ext cx="5573880" cy="31924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1757520" y="3786120"/>
            <a:ext cx="1544400" cy="89856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1371600" y="4751280"/>
            <a:ext cx="900000" cy="12225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438280" y="5522760"/>
            <a:ext cx="1930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Prospección y Explorac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467160" y="4622760"/>
            <a:ext cx="1158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Preparación y Construcc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rot="19774800">
            <a:off x="3735360" y="4242960"/>
            <a:ext cx="514440" cy="254160"/>
          </a:xfrm>
          <a:prstGeom prst="rightArrow">
            <a:avLst>
              <a:gd name="adj1" fmla="val 50000"/>
              <a:gd name="adj2" fmla="val 50602"/>
            </a:avLst>
          </a:prstGeom>
          <a:solidFill>
            <a:srgbClr val="0c6db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rot="19774800">
            <a:off x="2787480" y="5073120"/>
            <a:ext cx="514440" cy="254160"/>
          </a:xfrm>
          <a:prstGeom prst="rightArrow">
            <a:avLst>
              <a:gd name="adj1" fmla="val 50000"/>
              <a:gd name="adj2" fmla="val 50602"/>
            </a:avLst>
          </a:prstGeom>
          <a:solidFill>
            <a:srgbClr val="0c6db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524480" y="3529080"/>
            <a:ext cx="707760" cy="514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746680" y="2949480"/>
            <a:ext cx="708120" cy="514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354800" y="2370240"/>
            <a:ext cx="708120" cy="51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173400" y="1147680"/>
            <a:ext cx="1479600" cy="514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rot="19774800">
            <a:off x="4975200" y="3592080"/>
            <a:ext cx="514440" cy="255600"/>
          </a:xfrm>
          <a:prstGeom prst="rightArrow">
            <a:avLst>
              <a:gd name="adj1" fmla="val 50000"/>
              <a:gd name="adj2" fmla="val 50317"/>
            </a:avLst>
          </a:prstGeom>
          <a:solidFill>
            <a:srgbClr val="0c6db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rot="19774800">
            <a:off x="6389640" y="2952360"/>
            <a:ext cx="514440" cy="254160"/>
          </a:xfrm>
          <a:prstGeom prst="rightArrow">
            <a:avLst>
              <a:gd name="adj1" fmla="val 50000"/>
              <a:gd name="adj2" fmla="val 50602"/>
            </a:avLst>
          </a:prstGeom>
          <a:solidFill>
            <a:srgbClr val="0c6db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rot="19774800">
            <a:off x="7548480" y="2306160"/>
            <a:ext cx="514440" cy="254160"/>
          </a:xfrm>
          <a:prstGeom prst="rightArrow">
            <a:avLst>
              <a:gd name="adj1" fmla="val 50000"/>
              <a:gd name="adj2" fmla="val 50602"/>
            </a:avLst>
          </a:prstGeom>
          <a:solidFill>
            <a:srgbClr val="0c6db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143000" y="1295280"/>
            <a:ext cx="3200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c6db4"/>
                </a:solidFill>
                <a:latin typeface="Verdana"/>
              </a:rPr>
              <a:t>…</a:t>
            </a:r>
            <a:r>
              <a:rPr b="1" lang="es-ES_tradnl" sz="2800" spc="-1" strike="noStrike">
                <a:solidFill>
                  <a:srgbClr val="0c6db4"/>
                </a:solidFill>
                <a:latin typeface="Verdana"/>
              </a:rPr>
              <a:t>en la minerí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99840" y="15238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c6db4"/>
                </a:solidFill>
                <a:latin typeface="Verdana"/>
              </a:rPr>
              <a:t>...se trata de</a:t>
            </a:r>
            <a:br>
              <a:rPr sz="2800"/>
            </a:br>
            <a:r>
              <a:rPr b="1" lang="es-ES_tradnl" sz="2800" spc="-1" strike="noStrike">
                <a:solidFill>
                  <a:srgbClr val="0c6db4"/>
                </a:solidFill>
                <a:latin typeface="Verdana"/>
              </a:rPr>
              <a:t>distintos modos </a:t>
            </a:r>
            <a:br>
              <a:rPr sz="2800"/>
            </a:br>
            <a:r>
              <a:rPr b="1" lang="es-ES_tradnl" sz="2800" spc="-1" strike="noStrike">
                <a:solidFill>
                  <a:srgbClr val="0c6db4"/>
                </a:solidFill>
                <a:latin typeface="Verdana"/>
              </a:rPr>
              <a:t>de transformar, </a:t>
            </a:r>
            <a:br>
              <a:rPr sz="2800"/>
            </a:br>
            <a:r>
              <a:rPr b="1" lang="es-ES_tradnl" sz="2800" spc="-1" strike="noStrike">
                <a:solidFill>
                  <a:srgbClr val="0c6db4"/>
                </a:solidFill>
                <a:latin typeface="Verdana"/>
              </a:rPr>
              <a:t>de trabajar </a:t>
            </a:r>
            <a:br>
              <a:rPr sz="2800"/>
            </a:br>
            <a:r>
              <a:rPr b="1" lang="es-ES_tradnl" sz="2800" spc="-1" strike="noStrike">
                <a:solidFill>
                  <a:srgbClr val="0c6db4"/>
                </a:solidFill>
                <a:latin typeface="Verdana"/>
              </a:rPr>
              <a:t>con un recurso </a:t>
            </a:r>
            <a:br>
              <a:rPr sz="2800"/>
            </a:br>
            <a:r>
              <a:rPr b="1" lang="es-ES_tradnl" sz="2800" spc="-1" strike="noStrike">
                <a:solidFill>
                  <a:srgbClr val="0c6db4"/>
                </a:solidFill>
                <a:latin typeface="Verdana"/>
              </a:rPr>
              <a:t>y de obtener un producto de </a:t>
            </a:r>
            <a:br>
              <a:rPr sz="2800"/>
            </a:br>
            <a:r>
              <a:rPr b="1" lang="es-ES_tradnl" sz="2800" spc="-1" strike="noStrike">
                <a:solidFill>
                  <a:srgbClr val="0c6db4"/>
                </a:solidFill>
                <a:latin typeface="Verdana"/>
              </a:rPr>
              <a:t>mayor valo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04760" y="1294920"/>
            <a:ext cx="601956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c6db4"/>
                </a:solidFill>
                <a:latin typeface="Verdana"/>
              </a:rPr>
              <a:t>El recurso mineral </a:t>
            </a:r>
            <a:br>
              <a:rPr sz="2800"/>
            </a:br>
            <a:r>
              <a:rPr b="1" lang="es-ES_tradnl" sz="2800" spc="-1" strike="noStrike">
                <a:solidFill>
                  <a:srgbClr val="0c6db4"/>
                </a:solidFill>
                <a:latin typeface="Verdana"/>
              </a:rPr>
              <a:t>en sí mismo no tiene valor,</a:t>
            </a:r>
            <a:br>
              <a:rPr sz="2800"/>
            </a:br>
            <a:r>
              <a:rPr b="1" lang="es-ES_tradnl" sz="2800" spc="-1" strike="noStrike">
                <a:solidFill>
                  <a:srgbClr val="0c6db4"/>
                </a:solidFill>
                <a:latin typeface="Verdana"/>
              </a:rPr>
              <a:t>la actividad minera se lo d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447920" y="5334120"/>
            <a:ext cx="5486400" cy="457200"/>
          </a:xfrm>
          <a:prstGeom prst="rect">
            <a:avLst/>
          </a:prstGeom>
          <a:solidFill>
            <a:srgbClr val="0c6d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447920" y="3581280"/>
            <a:ext cx="5486400" cy="457200"/>
          </a:xfrm>
          <a:prstGeom prst="rect">
            <a:avLst/>
          </a:prstGeom>
          <a:solidFill>
            <a:srgbClr val="0c6d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219320" y="990720"/>
            <a:ext cx="5943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c6db4"/>
                </a:solidFill>
                <a:latin typeface="Verdana"/>
              </a:rPr>
              <a:t>PERÚ</a:t>
            </a:r>
            <a:br>
              <a:rPr sz="2800"/>
            </a:br>
            <a:r>
              <a:rPr b="1" lang="es-ES_tradnl" sz="2800" spc="-1" strike="noStrike">
                <a:solidFill>
                  <a:srgbClr val="0c6db4"/>
                </a:solidFill>
                <a:latin typeface="Verdana"/>
              </a:rPr>
              <a:t>Tiempos Promedios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600200" y="1828800"/>
            <a:ext cx="2590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Verdana"/>
              </a:rPr>
              <a:t>Exploració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819520" y="1905120"/>
            <a:ext cx="30477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5 a 7 añ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2286000"/>
            <a:ext cx="28958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Verdana"/>
              </a:rPr>
              <a:t>Pre operativo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286000" y="2209680"/>
            <a:ext cx="35812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Oro: 9 años</a:t>
            </a:r>
            <a:br>
              <a:rPr sz="1600"/>
            </a:b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Cobre: 14 años</a:t>
            </a:r>
            <a:br>
              <a:rPr sz="1600"/>
            </a:b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Polimetálico: 16 añ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3505320"/>
            <a:ext cx="2590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ffff"/>
                </a:solidFill>
                <a:latin typeface="Verdana"/>
              </a:rPr>
              <a:t>Total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819520" y="3505320"/>
            <a:ext cx="30477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ffff"/>
                </a:solidFill>
                <a:latin typeface="Verdana"/>
              </a:rPr>
              <a:t>14 a 23 añ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447920" y="4343400"/>
            <a:ext cx="5715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Verdana"/>
              </a:rPr>
              <a:t>Inversión Promedio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295280" y="4800600"/>
            <a:ext cx="5867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Verdana"/>
              </a:rPr>
              <a:t>ent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219320" y="5257800"/>
            <a:ext cx="5943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ffff"/>
                </a:solidFill>
                <a:latin typeface="Verdana"/>
              </a:rPr>
              <a:t>US$ 35 y 2,000 millon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4191120" y="5016600"/>
            <a:ext cx="279396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1 T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Valor = US$ 3,28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91120" y="3111480"/>
            <a:ext cx="234936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1504 Tonelad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Valor = US$ 0.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587600" y="1333440"/>
            <a:ext cx="2222280" cy="4318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650960" y="3174840"/>
            <a:ext cx="209556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Material min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587600" y="5079960"/>
            <a:ext cx="2222280" cy="571680"/>
          </a:xfrm>
          <a:prstGeom prst="rect">
            <a:avLst/>
          </a:prstGeom>
          <a:solidFill>
            <a:srgbClr val="dc58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523880" y="5143680"/>
            <a:ext cx="234972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Metal refin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3873600" y="3238560"/>
            <a:ext cx="457200" cy="4096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3873600" y="5207040"/>
            <a:ext cx="457200" cy="40968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6794640" y="990720"/>
            <a:ext cx="196848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cc3300"/>
                </a:solidFill>
                <a:latin typeface="Verdana"/>
              </a:rPr>
              <a:t>COBR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4048200" y="4989600"/>
            <a:ext cx="268920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1 T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Valor = US$ 1,16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48200" y="3022560"/>
            <a:ext cx="242568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20 Tonelad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Valor = US$ 0.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60440" y="1187280"/>
            <a:ext cx="2293920" cy="44564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427040" y="3087720"/>
            <a:ext cx="216072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Material min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360440" y="5052960"/>
            <a:ext cx="2293920" cy="5907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295280" y="5118120"/>
            <a:ext cx="242568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Metal refin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3720960" y="3152880"/>
            <a:ext cx="471600" cy="4237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3720960" y="5184720"/>
            <a:ext cx="471600" cy="42228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6730920" y="990720"/>
            <a:ext cx="203220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0099"/>
                </a:solidFill>
                <a:latin typeface="Verdana"/>
              </a:rPr>
              <a:t>ZINC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4094280" y="5021280"/>
            <a:ext cx="304776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1 K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Valor = US$ 13,55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35440" y="3076560"/>
            <a:ext cx="265752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666,667 Kil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Valor = US$ 0.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436760" y="1262160"/>
            <a:ext cx="2268360" cy="44085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501920" y="3141720"/>
            <a:ext cx="213804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Material min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436760" y="5086440"/>
            <a:ext cx="2268360" cy="584280"/>
          </a:xfrm>
          <a:prstGeom prst="rect">
            <a:avLst/>
          </a:prstGeom>
          <a:solidFill>
            <a:srgbClr val="e2ac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371600" y="5151600"/>
            <a:ext cx="239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Metal refin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3770280" y="3206880"/>
            <a:ext cx="466920" cy="41724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3770280" y="5216400"/>
            <a:ext cx="466920" cy="4176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6748560" y="1066680"/>
            <a:ext cx="20095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e2ac4e"/>
                </a:solidFill>
                <a:latin typeface="Verdana"/>
              </a:rPr>
              <a:t>OR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676520" y="4495680"/>
            <a:ext cx="670536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c6db4"/>
                </a:solidFill>
                <a:latin typeface="Verdana"/>
              </a:rPr>
              <a:t>No existe divergencia </a:t>
            </a:r>
            <a:br>
              <a:rPr sz="2800"/>
            </a:br>
            <a:r>
              <a:rPr b="1" lang="es-PE" sz="2800" spc="-1" strike="noStrike">
                <a:solidFill>
                  <a:srgbClr val="0c6db4"/>
                </a:solidFill>
                <a:latin typeface="Verdana"/>
              </a:rPr>
              <a:t>entre las exportaciones mineras y el desarrollo de la indust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600200" y="2438280"/>
            <a:ext cx="59436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47920" y="1066680"/>
            <a:ext cx="68580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c6db4"/>
                </a:solidFill>
                <a:latin typeface="Verdana"/>
              </a:rPr>
              <a:t>La disponibilidad de recursos naturales puede ser un elemento clave para el crecimiento en tanto se complemente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600200" y="2438280"/>
            <a:ext cx="59436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1752480"/>
            <a:ext cx="51051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Verdana"/>
              </a:rPr>
              <a:t>Exportaciones de bienes primario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Verdana"/>
              </a:rPr>
              <a:t>Exportaciones de manufactur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24920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48466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449568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c6db4"/>
                </a:solidFill>
                <a:latin typeface="Verdana"/>
              </a:rPr>
              <a:t>Percibidas erradamente como excluy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43000" y="1218960"/>
            <a:ext cx="739152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c6db4"/>
                </a:solidFill>
                <a:latin typeface="Verdana"/>
              </a:rPr>
              <a:t>La evolución positiva del sector minero se ha visto reflejada en la demanda de insumos a la industria nacional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71240" y="274320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c6db4"/>
                </a:solidFill>
                <a:latin typeface="Verdana"/>
              </a:rPr>
              <a:t>Estas industria han ampliado sus actividades y estan incursionando en otros país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600200" y="2438280"/>
            <a:ext cx="59436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1676520" y="1219320"/>
            <a:ext cx="3276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Equipos para procesamiento en general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8764200" y="6477120"/>
            <a:ext cx="23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8763480" y="647712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676520" y="1219320"/>
            <a:ext cx="327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Equipos electrónicos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1738440" y="1457280"/>
            <a:ext cx="3900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c6db4"/>
                </a:solidFill>
                <a:latin typeface="Verdana"/>
              </a:rPr>
              <a:t>Suministros, partes y piezas y estructura de ac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8763480" y="647712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8764200" y="6477120"/>
            <a:ext cx="23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990720" y="1219320"/>
            <a:ext cx="40384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Principales consumidores de explosivos, llantas, piezas de jefe y suministros de segurid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8763480" y="647712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905120" y="914400"/>
            <a:ext cx="6629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Los industriales y los mineros podemos complementarnos y dimensionar nuestras posibilidades de generar valor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8763480" y="647712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600200" y="1009800"/>
            <a:ext cx="3962520" cy="44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c6db4"/>
                </a:solidFill>
                <a:latin typeface="Verdana"/>
              </a:rPr>
              <a:t>Acciones coordinadas y conjunta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c6db4"/>
                </a:solidFill>
                <a:latin typeface="Verdana"/>
              </a:rPr>
              <a:t>Estableciendo mecanismos de información entre ambas actividade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c6db4"/>
                </a:solidFill>
                <a:latin typeface="Verdana"/>
              </a:rPr>
              <a:t>Facilitando la ejecución de planes de inversión e innovación tecnológica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8763480" y="647712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371600" y="1600200"/>
            <a:ext cx="7010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El sector minero demandaría bienes y servicios de la industria de acuerdo a sus exigencias de calidad, cantidad, oportunidad y precio adecuados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8763480" y="647712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752480" y="1219320"/>
            <a:ext cx="6477120" cy="420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El desarrollo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s más que políticas para lograr un crecimiento económic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s crecer hacia nuevas formas de hacer, de relacionarse y por tanto de produci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no sólo tiene que ver con apertura comercial y acceso a los mercad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tiene que ver con la forma en que una economía logra integrarse en sí mis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523880" y="2438280"/>
            <a:ext cx="39625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Dejar de exportar recursos naturales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mpezar a exportar bienes elaborados en base a dichos recursos natura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… 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como la única maner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de lograr el desarrol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109440" y="-9401040"/>
            <a:ext cx="8926560" cy="25660080"/>
            <a:chOff x="109440" y="-9401040"/>
            <a:chExt cx="8926560" cy="25660080"/>
          </a:xfrm>
        </p:grpSpPr>
        <p:sp>
          <p:nvSpPr>
            <p:cNvPr id="49" name=""/>
            <p:cNvSpPr/>
            <p:nvPr/>
          </p:nvSpPr>
          <p:spPr>
            <a:xfrm>
              <a:off x="109440" y="-9401040"/>
              <a:ext cx="8137440" cy="2566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" name=""/>
            <p:cNvGrpSpPr/>
            <p:nvPr/>
          </p:nvGrpSpPr>
          <p:grpSpPr>
            <a:xfrm>
              <a:off x="109440" y="-9401040"/>
              <a:ext cx="8926560" cy="24824880"/>
              <a:chOff x="109440" y="-9401040"/>
              <a:chExt cx="8926560" cy="24824880"/>
            </a:xfrm>
          </p:grpSpPr>
          <p:sp>
            <p:nvSpPr>
              <p:cNvPr id="51" name=""/>
              <p:cNvSpPr/>
              <p:nvPr/>
            </p:nvSpPr>
            <p:spPr>
              <a:xfrm>
                <a:off x="109440" y="-9401040"/>
                <a:ext cx="8137440" cy="24824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109440" y="-9401040"/>
                <a:ext cx="8926560" cy="224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14100" spc="-1" strike="noStrike">
                    <a:solidFill>
                      <a:srgbClr val="000000"/>
                    </a:solidFill>
                    <a:latin typeface="Times New Roman"/>
                  </a:rPr>
                  <a:t> 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                                            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3" name=""/>
          <p:cNvGrpSpPr/>
          <p:nvPr/>
        </p:nvGrpSpPr>
        <p:grpSpPr>
          <a:xfrm>
            <a:off x="-563400" y="-23650560"/>
            <a:ext cx="8137440" cy="25660440"/>
            <a:chOff x="-563400" y="-23650560"/>
            <a:chExt cx="8137440" cy="25660440"/>
          </a:xfrm>
        </p:grpSpPr>
        <p:sp>
          <p:nvSpPr>
            <p:cNvPr id="54" name=""/>
            <p:cNvSpPr/>
            <p:nvPr/>
          </p:nvSpPr>
          <p:spPr>
            <a:xfrm>
              <a:off x="-563400" y="-23650560"/>
              <a:ext cx="8137440" cy="2566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-563400" y="-23650560"/>
              <a:ext cx="8137440" cy="24825240"/>
              <a:chOff x="-563400" y="-23650560"/>
              <a:chExt cx="8137440" cy="24825240"/>
            </a:xfrm>
          </p:grpSpPr>
          <p:sp>
            <p:nvSpPr>
              <p:cNvPr id="56" name=""/>
              <p:cNvSpPr/>
              <p:nvPr/>
            </p:nvSpPr>
            <p:spPr>
              <a:xfrm>
                <a:off x="-563400" y="-23650560"/>
                <a:ext cx="8137440" cy="24825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-563400" y="-23650560"/>
                <a:ext cx="81374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br>
                  <a:rPr sz="2400"/>
                </a:b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8" name=""/>
          <p:cNvGrpSpPr/>
          <p:nvPr/>
        </p:nvGrpSpPr>
        <p:grpSpPr>
          <a:xfrm>
            <a:off x="503280" y="-23550480"/>
            <a:ext cx="8137440" cy="25660440"/>
            <a:chOff x="503280" y="-23550480"/>
            <a:chExt cx="8137440" cy="25660440"/>
          </a:xfrm>
        </p:grpSpPr>
        <p:sp>
          <p:nvSpPr>
            <p:cNvPr id="59" name=""/>
            <p:cNvSpPr/>
            <p:nvPr/>
          </p:nvSpPr>
          <p:spPr>
            <a:xfrm>
              <a:off x="503280" y="-23550480"/>
              <a:ext cx="8137440" cy="2566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" name=""/>
            <p:cNvGrpSpPr/>
            <p:nvPr/>
          </p:nvGrpSpPr>
          <p:grpSpPr>
            <a:xfrm>
              <a:off x="503280" y="-23550480"/>
              <a:ext cx="8137440" cy="24825240"/>
              <a:chOff x="503280" y="-23550480"/>
              <a:chExt cx="8137440" cy="24825240"/>
            </a:xfrm>
          </p:grpSpPr>
          <p:sp>
            <p:nvSpPr>
              <p:cNvPr id="61" name=""/>
              <p:cNvSpPr/>
              <p:nvPr/>
            </p:nvSpPr>
            <p:spPr>
              <a:xfrm>
                <a:off x="503280" y="-23550480"/>
                <a:ext cx="8137440" cy="24825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03280" y="-23550480"/>
                <a:ext cx="81374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br>
                  <a:rPr sz="2400"/>
                </a:b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3" name=""/>
          <p:cNvGrpSpPr/>
          <p:nvPr/>
        </p:nvGrpSpPr>
        <p:grpSpPr>
          <a:xfrm>
            <a:off x="503280" y="27757440"/>
            <a:ext cx="5715000" cy="2651040"/>
            <a:chOff x="503280" y="27757440"/>
            <a:chExt cx="5715000" cy="2651040"/>
          </a:xfrm>
        </p:grpSpPr>
        <p:sp>
          <p:nvSpPr>
            <p:cNvPr id="64" name=""/>
            <p:cNvSpPr/>
            <p:nvPr/>
          </p:nvSpPr>
          <p:spPr>
            <a:xfrm>
              <a:off x="503280" y="27757440"/>
              <a:ext cx="5715000" cy="201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3280" y="27757440"/>
              <a:ext cx="3657600" cy="265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44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  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47920" y="1066680"/>
            <a:ext cx="6705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Propuesta económica de final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de los sesent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8763480" y="647712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371600" y="1371600"/>
            <a:ext cx="7086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El desarrollo hoy tiene que ver aprovechar tanto los recurso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tangibles como los intangibl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8763480" y="647712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752480"/>
            <a:ext cx="4267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Se ha invertido en capital humano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-130320" y="-1457280"/>
            <a:ext cx="9406080" cy="9772560"/>
            <a:chOff x="-130320" y="-1457280"/>
            <a:chExt cx="9406080" cy="9772560"/>
          </a:xfrm>
        </p:grpSpPr>
        <p:sp>
          <p:nvSpPr>
            <p:cNvPr id="166" name=""/>
            <p:cNvSpPr/>
            <p:nvPr/>
          </p:nvSpPr>
          <p:spPr>
            <a:xfrm>
              <a:off x="-130320" y="-1457280"/>
              <a:ext cx="6823080" cy="977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-130320" y="-1457280"/>
              <a:ext cx="940608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8763480" y="647712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-130320" y="-1457280"/>
            <a:ext cx="9406080" cy="9772560"/>
            <a:chOff x="-130320" y="-1457280"/>
            <a:chExt cx="9406080" cy="9772560"/>
          </a:xfrm>
        </p:grpSpPr>
        <p:sp>
          <p:nvSpPr>
            <p:cNvPr id="170" name=""/>
            <p:cNvSpPr/>
            <p:nvPr/>
          </p:nvSpPr>
          <p:spPr>
            <a:xfrm>
              <a:off x="-130320" y="-1457280"/>
              <a:ext cx="6823080" cy="977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-130320" y="-1457280"/>
              <a:ext cx="940608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1817640" y="1951200"/>
            <a:ext cx="5508720" cy="3324600"/>
            <a:chOff x="1817640" y="1951200"/>
            <a:chExt cx="5508720" cy="3324600"/>
          </a:xfrm>
        </p:grpSpPr>
        <p:sp>
          <p:nvSpPr>
            <p:cNvPr id="173" name=""/>
            <p:cNvSpPr/>
            <p:nvPr/>
          </p:nvSpPr>
          <p:spPr>
            <a:xfrm>
              <a:off x="1817640" y="1951200"/>
              <a:ext cx="550872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817640" y="1951200"/>
              <a:ext cx="3616200" cy="332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Georgia"/>
                </a:rPr>
                <a:t>  </a:t>
              </a:r>
              <a:r>
                <a:rPr b="0" lang="en-US" sz="14000" spc="-1" strike="noStrike">
                  <a:solidFill>
                    <a:srgbClr val="000000"/>
                  </a:solidFill>
                  <a:latin typeface="Georgia"/>
                </a:rPr>
                <a:t> </a:t>
              </a:r>
              <a:r>
                <a:rPr b="0" lang="en-US" sz="2400" spc="-1" strike="noStrike">
                  <a:solidFill>
                    <a:srgbClr val="000000"/>
                  </a:solidFill>
                  <a:latin typeface="Georgia"/>
                </a:rPr>
                <a:t>                                     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1635120" y="2370240"/>
            <a:ext cx="5875200" cy="2117520"/>
            <a:chOff x="1635120" y="2370240"/>
            <a:chExt cx="5875200" cy="2117520"/>
          </a:xfrm>
        </p:grpSpPr>
        <p:sp>
          <p:nvSpPr>
            <p:cNvPr id="176" name=""/>
            <p:cNvSpPr/>
            <p:nvPr/>
          </p:nvSpPr>
          <p:spPr>
            <a:xfrm>
              <a:off x="1635120" y="2370240"/>
              <a:ext cx="58752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635120" y="2370240"/>
              <a:ext cx="5875200" cy="21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109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8" name=""/>
          <p:cNvSpPr/>
          <p:nvPr/>
        </p:nvSpPr>
        <p:spPr>
          <a:xfrm>
            <a:off x="1447920" y="2057400"/>
            <a:ext cx="32763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Contamos con recurso humano, con conocimiento, capacidades y experiencia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8763480" y="647712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-130320" y="-1457280"/>
            <a:ext cx="9406080" cy="9772560"/>
            <a:chOff x="-130320" y="-1457280"/>
            <a:chExt cx="9406080" cy="9772560"/>
          </a:xfrm>
        </p:grpSpPr>
        <p:sp>
          <p:nvSpPr>
            <p:cNvPr id="181" name=""/>
            <p:cNvSpPr/>
            <p:nvPr/>
          </p:nvSpPr>
          <p:spPr>
            <a:xfrm>
              <a:off x="-130320" y="-1457280"/>
              <a:ext cx="6823080" cy="977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-130320" y="-1457280"/>
              <a:ext cx="940608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1817640" y="1951200"/>
            <a:ext cx="5508720" cy="3324600"/>
            <a:chOff x="1817640" y="1951200"/>
            <a:chExt cx="5508720" cy="3324600"/>
          </a:xfrm>
        </p:grpSpPr>
        <p:sp>
          <p:nvSpPr>
            <p:cNvPr id="184" name=""/>
            <p:cNvSpPr/>
            <p:nvPr/>
          </p:nvSpPr>
          <p:spPr>
            <a:xfrm>
              <a:off x="1817640" y="1951200"/>
              <a:ext cx="550872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817640" y="1951200"/>
              <a:ext cx="3616200" cy="332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Georgia"/>
                </a:rPr>
                <a:t>  </a:t>
              </a:r>
              <a:r>
                <a:rPr b="0" lang="en-US" sz="14000" spc="-1" strike="noStrike">
                  <a:solidFill>
                    <a:srgbClr val="000000"/>
                  </a:solidFill>
                  <a:latin typeface="Georgia"/>
                </a:rPr>
                <a:t> </a:t>
              </a:r>
              <a:r>
                <a:rPr b="0" lang="en-US" sz="2400" spc="-1" strike="noStrike">
                  <a:solidFill>
                    <a:srgbClr val="000000"/>
                  </a:solidFill>
                  <a:latin typeface="Georgia"/>
                </a:rPr>
                <a:t>                                     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1635120" y="2370240"/>
            <a:ext cx="5875200" cy="2117520"/>
            <a:chOff x="1635120" y="2370240"/>
            <a:chExt cx="5875200" cy="2117520"/>
          </a:xfrm>
        </p:grpSpPr>
        <p:sp>
          <p:nvSpPr>
            <p:cNvPr id="187" name=""/>
            <p:cNvSpPr/>
            <p:nvPr/>
          </p:nvSpPr>
          <p:spPr>
            <a:xfrm>
              <a:off x="1635120" y="2370240"/>
              <a:ext cx="58752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635120" y="2370240"/>
              <a:ext cx="5875200" cy="21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109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1143000" y="1600200"/>
            <a:ext cx="37339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Hubiera sido más provechoso para el país, exportar talentos que exportar personas con talento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8763480" y="647712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752480" y="2438280"/>
            <a:ext cx="6324840" cy="21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El desarrollo hoy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tiene que ver con lograr hacer de las ventajas que se tienen se conviertan en un elemento de competencia positiva respecto de los otros país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8763480" y="647712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209680" y="1752480"/>
            <a:ext cx="6324840" cy="35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Elementos para defini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ventaja comparativ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Proximidad a merc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Conocimiento técn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Capital humano dispon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Disponibilidad de infraestructura públ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Calidad de institu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8763480" y="647712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752480" y="914400"/>
            <a:ext cx="563904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Tiene el Perú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Proximidad a mercado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8763480" y="647712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752480" y="914400"/>
            <a:ext cx="701064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Tiene el Perú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Conocimiento técnico y capital human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8763480" y="647712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752480" y="914400"/>
            <a:ext cx="701064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Tiene el Perú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Disponibilidad de infraestructura públic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8763480" y="647712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752480" y="1371600"/>
            <a:ext cx="6934320" cy="45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Tiene el Perú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Instituciones de calida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Necesitamos qu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Sean sólidas, técnicas y transparen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Cumplan a cabalidad su rol normativo, regulador y fiscalizad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Que estén presentes en los rincones del país donde sean necesari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676520" y="2666880"/>
            <a:ext cx="647676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Pero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Los resultados no fueron los esper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8763480" y="647712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752480" y="2514600"/>
            <a:ext cx="693432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Necesitamos qu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No haya ruido polític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Se reponga el principio de autorid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l gobierno de señales claras que democracia es respetar las ley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8763480" y="647712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1905120"/>
            <a:ext cx="5638680" cy="34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n base al esfuerzo y empeño de nuestra gente contamos con parte de las variables requeridas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Pero necesitamos instituciones que funcionen, se respeten y hagan respet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Que el estado cumpla con un rol subsidiario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8763480" y="647712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600200" y="1371600"/>
            <a:ext cx="71629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7960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."La dicotomía entre una base de recursos naturales y la 'economía del conocimiento' es falsa. Los recursos naturales tienen el mismo gran potencial para generar progreso tecnológico y crecimiento que muchas industrias manufactureras. Al igual que otras industrias, su éxito depende de la aplicación de conocimientos, capital humano, instituciones sólidas y el compromiso de aprovechar las reservas globales de conocimientos prácticos y progreso tecnológico"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960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05120" y="1066320"/>
            <a:ext cx="457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Dos elementos claves </a:t>
            </a:r>
            <a:br>
              <a:rPr sz="2800"/>
            </a:b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no considerados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905120" y="2286000"/>
            <a:ext cx="5943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Verdana"/>
              </a:rPr>
              <a:t>Acceso a la tecnología adecu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xistencia de mercados exteri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295280" y="1295280"/>
            <a:ext cx="6019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Hoy el Perú es un exportador más sóli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048120" y="5029200"/>
            <a:ext cx="5715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Ofrece productos primarios y muchos no tradicion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371600" y="1295280"/>
            <a:ext cx="6934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Ambos tipos de exportacion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son importantes y añaden valor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5410080" y="4726080"/>
            <a:ext cx="21337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42640" y="4800240"/>
            <a:ext cx="75438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c6db4"/>
                </a:solidFill>
                <a:latin typeface="Verdana"/>
              </a:rPr>
              <a:t>las operaciones mineras </a:t>
            </a:r>
            <a:br>
              <a:rPr sz="2800"/>
            </a:br>
            <a:r>
              <a:rPr b="1" lang="es-ES_tradnl" sz="2800" spc="-1" strike="noStrike">
                <a:solidFill>
                  <a:srgbClr val="0c6db4"/>
                </a:solidFill>
                <a:latin typeface="Verdana"/>
              </a:rPr>
              <a:t>no </a:t>
            </a:r>
            <a:r>
              <a:rPr b="1" lang="en-US" sz="2800" spc="-1" strike="noStrike">
                <a:solidFill>
                  <a:srgbClr val="0c6db4"/>
                </a:solidFill>
                <a:latin typeface="Verdana"/>
              </a:rPr>
              <a:t>sólo se tratan de la extracción </a:t>
            </a:r>
            <a:br>
              <a:rPr sz="2800"/>
            </a:br>
            <a:r>
              <a:rPr b="1" lang="en-US" sz="2800" spc="-1" strike="noStrike">
                <a:solidFill>
                  <a:srgbClr val="0c6db4"/>
                </a:solidFill>
                <a:latin typeface="Verdana"/>
              </a:rPr>
              <a:t>y venta de minerales…</a:t>
            </a:r>
            <a:r>
              <a:rPr b="1" lang="es-ES_tradnl" sz="2800" spc="-1" strike="noStrike">
                <a:solidFill>
                  <a:srgbClr val="0c6db4"/>
                </a:solidFill>
                <a:latin typeface="Verdan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410080" y="4718160"/>
            <a:ext cx="21337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219320" y="1905120"/>
            <a:ext cx="7619760" cy="375444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1219320" y="2239920"/>
            <a:ext cx="2606400" cy="399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143000" y="1295280"/>
            <a:ext cx="5715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c6db4"/>
                </a:solidFill>
                <a:latin typeface="Verdana"/>
              </a:rPr>
              <a:t>…</a:t>
            </a:r>
            <a:r>
              <a:rPr b="1" lang="es-ES_tradnl" sz="2800" spc="-1" strike="noStrike">
                <a:solidFill>
                  <a:srgbClr val="0c6db4"/>
                </a:solidFill>
                <a:latin typeface="Verdana"/>
              </a:rPr>
              <a:t>en la industria text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6T13:38:07Z</dcterms:created>
  <dc:creator>----- -----</dc:creator>
  <dc:description/>
  <dc:language>en-US</dc:language>
  <cp:lastModifiedBy>PCLARCE</cp:lastModifiedBy>
  <cp:lastPrinted>2004-10-27T01:23:05Z</cp:lastPrinted>
  <dcterms:modified xsi:type="dcterms:W3CDTF">2004-10-27T23:44:43Z</dcterms:modified>
  <cp:revision>56</cp:revision>
  <dc:subject/>
  <dc:title>PowerPoint Presentation</dc:title>
</cp:coreProperties>
</file>